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D9D77F-823E-4D0E-948D-60786DC95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6A523-C898-4712-809D-756F33D34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457984-6002-4656-8B57-DD42BD90A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D76B8F-0386-43CE-8B27-E5FD0B7E7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401B4F-2A0B-4AEF-9D11-31BB89960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12EDF-D778-4E1A-9A8D-CF0122638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7902E1-3988-4447-8FFB-F2A1C5DEA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084DE-12D3-4664-85B8-D66FEF5BD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98FED-DD59-42FD-A07E-D9AF49723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62251-0D7E-4AB8-BBD3-01A4E2096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A5DAF-8D22-4236-A26A-B62B3DD38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0840C-4E86-49E8-8568-DC99F97B2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0F0D0-952C-4A32-A102-93895B200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2C965-A97F-44C3-8B66-F97293279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9360E-417A-4755-B8FC-559D61BF0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C8649E-5F65-4E62-85DE-402B53C43D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330F88-E10C-4895-9D6B-276D79296A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D9676B-0977-4B26-B447-9761D1E6EA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ED97C-B05E-46AC-B4F0-9ADF6496A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FCE57F-27AA-45D5-88F1-442022B47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AF0DC6-5DBA-48F8-B084-4032CC122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21FFFA-63A5-497C-AAAF-49F87C6F1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3B910-32D3-426F-8F85-F6F730948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C70946-D832-46CD-A173-194AC8707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6FDC-D4DB-4327-9F3D-6CC392162685}"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463840"/>
            <a:ext cx="9144000" cy="27525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Click to edit the title text format</a:t>
            </a:r>
            <a:endParaRPr b="0" i="1" lang="en-US" sz="60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6FB4-B26B-4534-AC63-1643289F93E2}"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A People of G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6232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would it look like to </a:t>
            </a:r>
            <a:br>
              <a:rPr sz="4000"/>
            </a:br>
            <a:r>
              <a:rPr b="0" lang="en-US" sz="4000" spc="-1" strike="noStrike">
                <a:solidFill>
                  <a:srgbClr val="e4a205"/>
                </a:solidFill>
                <a:latin typeface="Arial"/>
              </a:rPr>
              <a:t>start letting God decide </a:t>
            </a:r>
            <a:br>
              <a:rPr sz="4000"/>
            </a:br>
            <a:r>
              <a:rPr b="0" lang="en-US" sz="4000" spc="-1" strike="noStrike">
                <a:solidFill>
                  <a:srgbClr val="e4a205"/>
                </a:solidFill>
                <a:latin typeface="Arial"/>
              </a:rPr>
              <a:t>the right use of your life? </a:t>
            </a:r>
            <a:br>
              <a:rPr sz="4000"/>
            </a:br>
            <a:r>
              <a:rPr b="0" lang="en-US" sz="4000" spc="-1" strike="noStrike">
                <a:solidFill>
                  <a:srgbClr val="e4a205"/>
                </a:solidFill>
                <a:latin typeface="Arial"/>
              </a:rPr>
              <a:t>What would have to change?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braham looking at the stars</a:t>
            </a:r>
            <a:endParaRPr b="0" lang="en-US" sz="4000" spc="-1" strike="noStrike">
              <a:solidFill>
                <a:srgbClr val="e4a205"/>
              </a:solidFill>
              <a:latin typeface="Arial"/>
            </a:endParaRPr>
          </a:p>
        </p:txBody>
      </p:sp>
      <p:sp>
        <p:nvSpPr>
          <p:cNvPr id="98"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4a205"/>
              </a:solidFill>
              <a:latin typeface="Arial"/>
            </a:endParaRPr>
          </a:p>
        </p:txBody>
      </p:sp>
      <p:pic>
        <p:nvPicPr>
          <p:cNvPr id="99" name="" descr=""/>
          <p:cNvPicPr/>
          <p:nvPr/>
        </p:nvPicPr>
        <p:blipFill>
          <a:blip r:embed="rId2"/>
          <a:srcRect l="2601" t="3122" r="40506" b="2606"/>
          <a:stretch/>
        </p:blipFill>
        <p:spPr>
          <a:xfrm>
            <a:off x="2919240" y="0"/>
            <a:ext cx="3024360" cy="689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earned that all humans sin—choose self over God in their hearts.  And God looks at the heart, not just actions. God shows mercy and grace even while justly punishing human rebellion.</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saw that self and sin lead to separation and death, while obedience leads to life and relationship with God.  God also says life is in the blood and all life belongs to him.</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06680"/>
            <a:ext cx="8229600" cy="26208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100" spc="-1" strike="noStrike">
                <a:solidFill>
                  <a:srgbClr val="e4a205"/>
                </a:solidFill>
                <a:latin typeface="Arial"/>
              </a:rPr>
              <a:t>We also discussed what it means that God has created and commanded us to be fruitful.</a:t>
            </a:r>
            <a:endParaRPr b="0" lang="en-US" sz="31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A People of G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it means to be </a:t>
            </a:r>
            <a:r>
              <a:rPr b="0" i="1" lang="en-US" sz="4000" spc="-1" strike="noStrike">
                <a:solidFill>
                  <a:srgbClr val="e4a205"/>
                </a:solidFill>
                <a:latin typeface="Arial"/>
              </a:rPr>
              <a:t>righteous</a:t>
            </a:r>
            <a:r>
              <a:rPr b="0" lang="en-US" sz="4000" spc="-1" strike="noStrike">
                <a:solidFill>
                  <a:srgbClr val="e4a205"/>
                </a:solidFill>
                <a:latin typeface="Arial"/>
              </a:rPr>
              <a: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ultimately should decide/declare the right use of our lives, talents, time, energ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usually decides those things in your lif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00:05:52Z</dcterms:created>
  <dc:creator>Jessica Phay User</dc:creator>
  <dc:description/>
  <dc:language>en-US</dc:language>
  <cp:lastModifiedBy>Jessica Phay User</cp:lastModifiedBy>
  <dcterms:modified xsi:type="dcterms:W3CDTF">2009-04-23T17:49:28Z</dcterms:modified>
  <cp:revision>5</cp:revision>
  <dc:subject/>
  <dc:title>A People of God</dc:title>
</cp:coreProperties>
</file>