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CCD2A6-A1A1-4C65-9390-7B52ED463E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EDD3D4-91A2-4FFA-82B5-E5D36AB5CE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038AED-5C0E-4A8D-A5F8-32248E3F75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EB6BDF-A201-4127-A915-0509596DBB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3BF47C-DEC9-4CD6-BCF4-C081CB760D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903134-E2C5-444C-9BA0-356A3327D0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EE24F5-80E4-44E1-A08A-1CA63F3E73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158AC3-717A-4D41-8F1B-AFFB1C5025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369A08-8DE8-46AF-9DB0-2FA702DA8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D91438-F56D-49C0-BFCB-261E09B76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C4B0D9-6D36-4755-BFDC-D9506E841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840912-C3C0-4E91-861D-1482ECAE6C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C4B352-6FD8-4DA5-8DCF-29137736A5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D51F62-39BC-4C2D-85BE-41216BBCD6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C2C612-C06E-427A-A5EB-3BA9C402BC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2543F2-AE34-42D7-AFF5-9B70833AFA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6F4293-F504-4A3E-B65F-A4CC21F357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599A16-3608-4D47-A6E0-16C3BAB398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25149D-B9EF-4C58-B396-4DD5920D0D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611E1B-5B42-4600-BFB7-2C831D9092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DED441-CACA-4EB7-92F1-84FE3F3AB6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464137-F1EB-419F-B554-ECD6C1CF82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D20DFA-8018-447C-82FE-E24438A5C8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6B572E-0C7C-4BA3-9CD5-D104401E8F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239A-6F4D-4927-8A12-4D66F93533E0}"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011400"/>
            <a:ext cx="9144000" cy="165600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Click to edit the title text format</a:t>
            </a:r>
            <a:endParaRPr b="0" i="1" lang="en-US" sz="48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2A44-7262-4FA0-8935-8E105E6E2AD3}"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Life in the Spirit</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402560"/>
            <a:ext cx="4038480" cy="5242680"/>
          </a:xfrm>
          <a:prstGeom prst="rect">
            <a:avLst/>
          </a:prstGeom>
          <a:solidFill>
            <a:srgbClr val="480e0e">
              <a:alpha val="85000"/>
            </a:srgbClr>
          </a:solidFill>
          <a:ln w="12600">
            <a:solidFill>
              <a:srgbClr val="000000"/>
            </a:solidFill>
            <a:miter/>
          </a:ln>
        </p:spPr>
        <p:txBody>
          <a:bodyPr lIns="274320" rIns="274320" tIns="228600" bIns="228600" anchor="ctr">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4a205"/>
                </a:solidFill>
                <a:latin typeface="Arial"/>
              </a:rPr>
              <a:t>Desires of the flesh</a:t>
            </a:r>
            <a:endParaRPr b="0" lang="en-US" sz="24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xual immoralit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Impurit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Lustful pleasure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Idolatr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orcer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Hostility &amp; quarreling</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Jealous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Outbursts of anger</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lfish ambition</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Dissension, division</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Env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Drunkenness &amp; wild parties</a:t>
            </a:r>
            <a:endParaRPr b="0" lang="en-US" sz="2000" spc="-1" strike="noStrike">
              <a:solidFill>
                <a:srgbClr val="e4a205"/>
              </a:solidFill>
              <a:latin typeface="Arial"/>
            </a:endParaRPr>
          </a:p>
        </p:txBody>
      </p:sp>
      <p:sp>
        <p:nvSpPr>
          <p:cNvPr id="96" name="PlaceHolder 2"/>
          <p:cNvSpPr>
            <a:spLocks noGrp="1"/>
          </p:cNvSpPr>
          <p:nvPr>
            <p:ph/>
          </p:nvPr>
        </p:nvSpPr>
        <p:spPr>
          <a:xfrm>
            <a:off x="4648320" y="1406160"/>
            <a:ext cx="4038480" cy="4137840"/>
          </a:xfrm>
          <a:prstGeom prst="rect">
            <a:avLst/>
          </a:prstGeom>
          <a:solidFill>
            <a:srgbClr val="480e0e">
              <a:alpha val="85000"/>
            </a:srgbClr>
          </a:solidFill>
          <a:ln w="12600">
            <a:solidFill>
              <a:srgbClr val="000000"/>
            </a:solidFill>
            <a:miter/>
          </a:ln>
        </p:spPr>
        <p:txBody>
          <a:bodyPr lIns="274320" rIns="274320" tIns="228600" bIns="228600" anchor="ctr">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4a205"/>
                </a:solidFill>
                <a:latin typeface="Arial"/>
              </a:rPr>
              <a:t>Fruit of the Spirit</a:t>
            </a:r>
            <a:endParaRPr b="0" lang="en-US" sz="24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Love</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Jo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Peace</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Patience</a:t>
            </a:r>
            <a:r>
              <a:rPr b="0" lang="en-US" sz="2000" spc="-1" strike="noStrike">
                <a:solidFill>
                  <a:srgbClr val="e4a205"/>
                </a:solidFill>
                <a:latin typeface="Arial"/>
              </a:rPr>
              <a:t>	</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Kindnes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Goodnes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aithfulnes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Gentlenes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lf-control</a:t>
            </a:r>
            <a:endParaRPr b="0" lang="en-US" sz="2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60520"/>
            <a:ext cx="8229600" cy="51688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Romans 1: 1-2 (The Message)</a:t>
            </a:r>
            <a:br>
              <a:rPr sz="2000"/>
            </a:br>
            <a:r>
              <a:rPr b="0" lang="en-US" sz="3600" spc="-1" strike="noStrike">
                <a:solidFill>
                  <a:srgbClr val="e4a205"/>
                </a:solidFill>
                <a:latin typeface="Arial"/>
              </a:rPr>
              <a:t>With the arrival of Jesus, the Messiah,  that fateful dilemma is resolved... A new power is in operation. The Spirit of life in Christ, like a strong wind, has magnificently cleared the air, freeing you from a fated lifetime of brutal tyranny at the hands of sin and death.</a:t>
            </a:r>
            <a:endParaRPr b="0" lang="en-US" sz="36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16240"/>
            <a:ext cx="8229600" cy="12016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Others May… You Cannot!</a:t>
            </a:r>
            <a:endParaRPr b="0" lang="en-US" sz="4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87640"/>
            <a:ext cx="8229600" cy="16574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4a205"/>
                </a:solidFill>
                <a:latin typeface="Arial"/>
              </a:rPr>
              <a:t>If what we learned today is true, how does/should it affect your life?</a:t>
            </a:r>
            <a:endParaRPr b="0" lang="en-US" sz="39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us as a commun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others…</a:t>
            </a:r>
            <a:br>
              <a:rPr sz="4000"/>
            </a:br>
            <a:r>
              <a:rPr b="0" lang="en-US" sz="4000" spc="-1" strike="noStrike">
                <a:solidFill>
                  <a:srgbClr val="e4a205"/>
                </a:solidFill>
                <a:latin typeface="Arial"/>
              </a:rPr>
              <a:t>our neighborhood, our c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12920"/>
            <a:ext cx="8229600" cy="53164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000" spc="-1" strike="noStrike">
                <a:solidFill>
                  <a:srgbClr val="e4a205"/>
                </a:solidFill>
                <a:latin typeface="Arial"/>
              </a:rPr>
              <a:t>We looked at Jesus’ command to his followers to be and make disciples: people that believe in Jesus and are continually learning how to walk in his ways. We learned that this command is for all ages—all people who follow Jesus. This command is for us! We are to be actively making disciples. And we are all called to be baptized as a public display and confession of our faith in Christ.</a:t>
            </a:r>
            <a:endParaRPr b="0" lang="en-US" sz="3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0920"/>
            <a:ext cx="8229600" cy="46134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also talked about the idea that all of this is the work of God. He precedes us and makes us able to believe in Jesus. He then sends us out, by the power of his Holy Spirit, to live the life of a disciple and then also to make disciples.   It is ALL God’s work!</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606400"/>
            <a:ext cx="8229600" cy="24210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4000" spc="-1" strike="noStrike">
                <a:solidFill>
                  <a:srgbClr val="e4a205"/>
                </a:solidFill>
                <a:latin typeface="Arial"/>
              </a:rPr>
              <a:t>What really stuck with you from our last time together?</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Life in the Spirit</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1415520"/>
            <a:ext cx="8534160" cy="48006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Gal. 5:16-25</a:t>
            </a:r>
            <a:br>
              <a:rPr sz="2000"/>
            </a:br>
            <a:r>
              <a:rPr b="0" lang="en-US" sz="3300" spc="-1" strike="noStrike">
                <a:solidFill>
                  <a:srgbClr val="e4a205"/>
                </a:solidFill>
                <a:latin typeface="Arial"/>
              </a:rPr>
              <a:t>So I say, let the Holy Spirit guide your lives. Then you won’t be doing what your flesh desires. The flesh desires to do evil, which is just the opposite of what the Spirit wants. And the Spirit gives us desires that are the opposite of what the flesh desires. They are in conflict with each other, so that you do not do what you want…</a:t>
            </a:r>
            <a:endParaRPr b="0" lang="en-US" sz="33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1065240"/>
            <a:ext cx="8534160" cy="55022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4a205"/>
                </a:solidFill>
                <a:latin typeface="Arial"/>
              </a:rPr>
              <a:t>…</a:t>
            </a:r>
            <a:r>
              <a:rPr b="0" lang="en-US" sz="3300" spc="-1" strike="noStrike">
                <a:solidFill>
                  <a:srgbClr val="e4a205"/>
                </a:solidFill>
                <a:latin typeface="Arial"/>
              </a:rPr>
              <a:t>When you follow the desires of your flesh, the results are very clear: sexual immorality, impurity, lustful pleasures, idolatry, sorcery, hostility, quarreling, jealousy, outbursts of anger, selfish ambition, dissension, division, envy, drunkenness, wild parties, and other sins like these. Let me tell you again, as I have before, that anyone living that sort of life will not inherit the Kingdom of God…</a:t>
            </a:r>
            <a:endParaRPr b="0" lang="en-US" sz="33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1361880"/>
            <a:ext cx="8534160" cy="53434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a205"/>
                </a:solidFill>
                <a:latin typeface="Arial"/>
              </a:rPr>
              <a:t>…</a:t>
            </a:r>
            <a:r>
              <a:rPr b="0" lang="en-US" sz="3200" spc="-1" strike="noStrike">
                <a:solidFill>
                  <a:srgbClr val="e4a205"/>
                </a:solidFill>
                <a:latin typeface="Arial"/>
              </a:rPr>
              <a:t>But the Holy Spirit produces this kind of fruit in our lives: love, joy, peace, patience, kindness, goodness, faithfulness, gentleness, and self-control. There is no law against these things! Those who belong to Christ Jesus have nailed the passions and desires of their flesh to his cross and crucified them there. Since we are living by the Spirit, let us follow the Spirit’s leading in </a:t>
            </a:r>
            <a:r>
              <a:rPr b="1" i="1" lang="en-US" sz="3200" spc="-1" strike="noStrike">
                <a:solidFill>
                  <a:srgbClr val="e4a205"/>
                </a:solidFill>
                <a:latin typeface="Arial"/>
              </a:rPr>
              <a:t>every part of our lives</a:t>
            </a:r>
            <a:r>
              <a:rPr b="0" lang="en-US" sz="3200" spc="-1" strike="noStrike">
                <a:solidFill>
                  <a:srgbClr val="e4a205"/>
                </a:solidFill>
                <a:latin typeface="Arial"/>
              </a:rPr>
              <a:t>.</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22:22:51Z</dcterms:created>
  <dc:creator>Jessica Phay User</dc:creator>
  <dc:description/>
  <dc:language>en-US</dc:language>
  <cp:lastModifiedBy>Jessica Phay User</cp:lastModifiedBy>
  <dcterms:modified xsi:type="dcterms:W3CDTF">2009-04-23T17:52:18Z</dcterms:modified>
  <cp:revision>10</cp:revision>
  <dc:subject/>
  <dc:title>Life in the Spirit</dc:title>
</cp:coreProperties>
</file>