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B55A24-0465-4ADA-8F39-1B7A69C991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B799B8-9719-4DF7-B52A-02432A90AF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F4960D-F540-463D-A125-ADF60F1BC5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8ECD19-E40C-4FAF-9C4E-EBB285B15A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8F0A58-C138-4C12-BF24-AF3843B7F8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FAEAD5-5826-474D-B7E9-294C94CF56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B804C7-C7F6-4604-9CCF-9A7E04EE16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4AD0A3-DF84-469A-9F2A-385209681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7F9F09-725A-423C-8279-AA736A05AE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C43CD8-758E-4EDF-9DBF-6122B69EA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FDF48D-7F30-4FCF-9893-2DDB44B05D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B73FCF-A821-496E-A06A-7E057FCC7E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8EE35B-8D85-4D9E-9E35-4FD7302E6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E77D1-069C-4CEE-9212-AB13713DC5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D596E5-AC39-45B9-BFEA-5470523C2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EFD754-83E9-4AF1-A509-41B4D5185C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5494AE-F4D2-47B8-92BD-A166FDC9A1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F17DB2-69C3-4B42-8110-6098E5F5D9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0C59A8-8CDA-4272-900A-FF4E1D64FF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1221D0-F946-43DC-92F1-E2C6E1FCCF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8C40E2-67AC-428F-8F70-704B5B4C77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1C4DEC-D470-4E5A-8D6D-16A0B93174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6CDE1F-A320-4EC5-BCAF-98DA068D3E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F55409-9078-4C0F-8BEF-5E06C35514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09A9-7358-4935-A040-3CCC86588B1C}"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463840"/>
            <a:ext cx="9144000" cy="2752560"/>
          </a:xfrm>
          <a:prstGeom prst="rect">
            <a:avLst/>
          </a:prstGeom>
          <a:solidFill>
            <a:srgbClr val="480e0e">
              <a:alpha val="90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Click to edit the title text format</a:t>
            </a:r>
            <a:endParaRPr b="0" i="1" lang="en-US" sz="60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54B2-E089-429A-BFC3-DCECBC5F2BB5}"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90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Two Brothers &amp; the Flood</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394000"/>
            <a:ext cx="8229600" cy="29080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your life change if you knew you were already loved and accepted regardless of </a:t>
            </a:r>
            <a:br>
              <a:rPr sz="4000"/>
            </a:br>
            <a:r>
              <a:rPr b="0" lang="en-US" sz="4000" spc="-1" strike="noStrike">
                <a:solidFill>
                  <a:srgbClr val="e4a205"/>
                </a:solidFill>
                <a:latin typeface="Arial"/>
              </a:rPr>
              <a:t>what you did?</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30840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es it mean to be fruitful?</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68320"/>
            <a:ext cx="8229600" cy="23590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Is your life prioritized for maximum fruitfulness? </a:t>
            </a:r>
            <a:br>
              <a:rPr sz="4000"/>
            </a:br>
            <a:r>
              <a:rPr b="0" lang="en-US" sz="2200" spc="-1" strike="noStrike">
                <a:solidFill>
                  <a:srgbClr val="e4a205"/>
                </a:solidFill>
                <a:latin typeface="Arial"/>
              </a:rPr>
              <a:t>What stands in the way? </a:t>
            </a:r>
            <a:br>
              <a:rPr sz="2200"/>
            </a:br>
            <a:r>
              <a:rPr b="0" lang="en-US" sz="2200" spc="-1" strike="noStrike">
                <a:solidFill>
                  <a:srgbClr val="e4a205"/>
                </a:solidFill>
                <a:latin typeface="Arial"/>
              </a:rPr>
              <a:t>How do you invest your time, talents, money, career?</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98560"/>
            <a:ext cx="8229600" cy="22986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could you begin to do </a:t>
            </a:r>
            <a:br>
              <a:rPr sz="4000"/>
            </a:br>
            <a:r>
              <a:rPr b="0" lang="en-US" sz="4000" spc="-1" strike="noStrike">
                <a:solidFill>
                  <a:srgbClr val="e4a205"/>
                </a:solidFill>
                <a:latin typeface="Arial"/>
              </a:rPr>
              <a:t>to be more fruitful in the way that God intended?</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332000"/>
            <a:ext cx="8686800" cy="50083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e4a205"/>
                </a:solidFill>
                <a:latin typeface="Arial"/>
              </a:rPr>
              <a:t>“</a:t>
            </a:r>
            <a:r>
              <a:rPr b="0" i="1" lang="en-US" sz="2700" spc="-1" strike="noStrike">
                <a:solidFill>
                  <a:srgbClr val="e4a205"/>
                </a:solidFill>
                <a:latin typeface="Arial"/>
              </a:rPr>
              <a:t>There are no ordinary people. You have never talked to a mere mortal. Nations, cultures, arts, civilizations—these are mortal, and their life is to ours as the life of a gnat. But it is immortals whom we joke with, work with, marry, snub, and exploit—</a:t>
            </a:r>
            <a:r>
              <a:rPr b="0" i="1" lang="en-US" sz="2700" spc="-1" strike="noStrike">
                <a:solidFill>
                  <a:srgbClr val="e4a205"/>
                </a:solidFill>
                <a:latin typeface="Arial"/>
              </a:rPr>
              <a:t>im</a:t>
            </a:r>
            <a:r>
              <a:rPr b="0" i="1" lang="en-US" sz="2700" spc="-1" strike="noStrike">
                <a:solidFill>
                  <a:srgbClr val="e4a205"/>
                </a:solidFill>
                <a:latin typeface="Arial"/>
              </a:rPr>
              <a:t>mortal horrors or everlasting splendors... Remember that the dullest and most uninteresting person you may talk to may one day be a creature which, if you saw it now, you would be strongly tempted to worship, or else a horror and corruption such as you meet, if at all, only in a nightmare.”</a:t>
            </a:r>
            <a:r>
              <a:rPr b="0" lang="en-US" sz="2800" spc="-1" strike="noStrike">
                <a:solidFill>
                  <a:srgbClr val="e4a205"/>
                </a:solidFill>
                <a:latin typeface="Arial"/>
              </a:rPr>
              <a:t> </a:t>
            </a:r>
            <a:r>
              <a:rPr b="0" lang="en-US" sz="2800" spc="-1" strike="noStrike">
                <a:solidFill>
                  <a:srgbClr val="e4a205"/>
                </a:solidFill>
                <a:latin typeface="Arial"/>
              </a:rPr>
              <a:t>	</a:t>
            </a:r>
            <a:r>
              <a:rPr b="0" lang="en-US" sz="2800" spc="-1" strike="noStrike">
                <a:solidFill>
                  <a:srgbClr val="e4a205"/>
                </a:solidFill>
                <a:latin typeface="Arial"/>
              </a:rPr>
              <a:t>	</a:t>
            </a:r>
            <a:r>
              <a:rPr b="0" lang="en-US" sz="2800" spc="-1" strike="noStrike">
                <a:solidFill>
                  <a:srgbClr val="e4a205"/>
                </a:solidFill>
                <a:latin typeface="Arial"/>
              </a:rPr>
              <a:t>	</a:t>
            </a:r>
            <a:r>
              <a:rPr b="0" lang="en-US" sz="2000" spc="-1" strike="noStrike">
                <a:solidFill>
                  <a:srgbClr val="e4a205"/>
                </a:solidFill>
                <a:latin typeface="Arial"/>
              </a:rPr>
              <a:t>~ C. S. Lewis</a:t>
            </a:r>
            <a:endParaRPr b="0" lang="en-US" sz="2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514600"/>
            <a:ext cx="9144000" cy="1829160"/>
          </a:xfrm>
          <a:prstGeom prst="rect">
            <a:avLst/>
          </a:prstGeom>
          <a:solidFill>
            <a:srgbClr val="000000"/>
          </a:solidFill>
          <a:ln w="9360">
            <a:noFill/>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Noah’s Ark</a:t>
            </a:r>
            <a:endParaRPr b="0" i="1" lang="en-US" sz="6000" spc="-1" strike="noStrike">
              <a:solidFill>
                <a:srgbClr val="e4a205"/>
              </a:solidFill>
              <a:latin typeface="Arial"/>
            </a:endParaRPr>
          </a:p>
        </p:txBody>
      </p:sp>
      <p:pic>
        <p:nvPicPr>
          <p:cNvPr id="101" name="" descr=""/>
          <p:cNvPicPr/>
          <p:nvPr/>
        </p:nvPicPr>
        <p:blipFill>
          <a:blip r:embed="rId2"/>
          <a:stretch/>
        </p:blipFill>
        <p:spPr>
          <a:xfrm>
            <a:off x="3240" y="380880"/>
            <a:ext cx="9140760" cy="5919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87640"/>
            <a:ext cx="8229600" cy="16574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4a205"/>
                </a:solidFill>
                <a:latin typeface="Arial"/>
              </a:rPr>
              <a:t>If what we learned today is true, how does/should it affect your life?</a:t>
            </a:r>
            <a:endParaRPr b="0" lang="en-US" sz="39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us as a commun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266840"/>
            <a:ext cx="8229600" cy="51004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looked at God creating the angels and the foundations of the earth. We saw Lucifer’s attempt to place himself above God—to be like God. And we learned that God will never allow evil to remain in his presence, so he cast Lucifer and the demons out of heaven, away from his presence.</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others…</a:t>
            </a:r>
            <a:br>
              <a:rPr sz="4000"/>
            </a:br>
            <a:r>
              <a:rPr b="0" lang="en-US" sz="4000" spc="-1" strike="noStrike">
                <a:solidFill>
                  <a:srgbClr val="e4a205"/>
                </a:solidFill>
                <a:latin typeface="Arial"/>
              </a:rPr>
              <a:t>our neighborhood, our c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422000"/>
            <a:ext cx="8229600" cy="4902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2700" spc="-1" strike="noStrike">
                <a:solidFill>
                  <a:srgbClr val="e4a205"/>
                </a:solidFill>
                <a:latin typeface="Arial"/>
              </a:rPr>
              <a:t>We also saw how God finished creating the earth and all living things, including humans which he created in his image to be like him. God blessed the humans by sharing his authority with them and telling them to be fruitful and multiply, continuing in creation. We learned that humans were given the ability to choose and ultimately chose to disobey God and attempt to manage right and wrong for themselves, apart from God.</a:t>
            </a:r>
            <a:endParaRPr b="0" lang="en-US" sz="27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375920"/>
            <a:ext cx="8229600" cy="5100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Again, God will not allow evil and rebellion to remain in his presence and cast Adam and Eve out of the garden, away from his presence. God continued to show his care for the humans by not destroying them and also creating clothing for them out of animal skins so they would not be naked and ashamed outside of the garden.</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06400"/>
            <a:ext cx="8229600" cy="24210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4000" spc="-1" strike="noStrike">
                <a:solidFill>
                  <a:srgbClr val="e4a205"/>
                </a:solidFill>
                <a:latin typeface="Arial"/>
              </a:rPr>
              <a:t>What really stuck with you from our last time together?</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21040"/>
            <a:ext cx="9144000" cy="1838160"/>
          </a:xfrm>
          <a:prstGeom prst="rect">
            <a:avLst/>
          </a:prstGeom>
          <a:solidFill>
            <a:srgbClr val="480e0e">
              <a:alpha val="90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Two Brothers &amp; the Flood</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0348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 you do when you don’t feel accepted?</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0348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are you willing to do for acceptance?</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23:56:35Z</dcterms:created>
  <dc:creator>Jessica Phay User</dc:creator>
  <dc:description/>
  <dc:language>en-US</dc:language>
  <cp:lastModifiedBy>Jessica Phay User</cp:lastModifiedBy>
  <dcterms:modified xsi:type="dcterms:W3CDTF">2009-04-23T17:46:27Z</dcterms:modified>
  <cp:revision>7</cp:revision>
  <dc:subject/>
  <dc:title>Two Brothers &amp; the Flood</dc:title>
</cp:coreProperties>
</file>