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716B-9A45-4E0B-804F-54E553030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54298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693B-B15B-4111-AC8A-BE63FB8FD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BDBC-2625-4258-8333-87800B7DC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2B5C-20D2-4D1A-8D8C-E5151C8A2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969AA-5A32-426B-8238-7AAFF351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7D253-82F9-403C-89A4-4A0490EE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7267E-6279-42E5-B9E3-9CB48EEF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9A172-531D-47A0-93DB-5AB2CD36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6DA2A-10A8-4B3B-A3F2-A8C5F79C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F1B2A-7786-478A-A06E-C8101119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44E1A-ABAB-4206-B78A-D3BEF16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7982-3DB6-477C-8833-925507726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FA2F3-6E2F-4922-88E0-FC8CED0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AADD0-5709-4EFD-A74C-BA752914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54298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DC44D-120E-4F96-9E52-2788EA24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1AD07-1FAC-49AD-B325-F64BB9F1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8F834-8F8C-476D-BCBB-264A01E4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D85F-59A9-400F-8F3E-10C0DAED5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CA19-49A1-482D-AD91-1EE334265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570C-7570-4218-8208-C48EBC111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3564-076F-4D93-A786-446C0CE88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BA6F-AEDF-4D54-B0DA-5923A258E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9201-0771-42AC-98B8-9304D006C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F65A-D95E-414D-BD38-0CF9069C2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solidFill>
            <a:srgbClr val="000000">
              <a:alpha val="67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1" marL="114480" indent="1440">
              <a:spcBef>
                <a:spcPts val="700"/>
              </a:spcBef>
              <a:buClr>
                <a:srgbClr val="e4a205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2" marL="345960">
              <a:spcBef>
                <a:spcPts val="700"/>
              </a:spcBef>
              <a:buClr>
                <a:srgbClr val="e4a20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3" marL="568440">
              <a:spcBef>
                <a:spcPts val="700"/>
              </a:spcBef>
              <a:buClr>
                <a:srgbClr val="e4a205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4" marL="798480">
              <a:spcBef>
                <a:spcPts val="700"/>
              </a:spcBef>
              <a:buClr>
                <a:srgbClr val="e4a205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5" marL="798480">
              <a:spcBef>
                <a:spcPts val="700"/>
              </a:spcBef>
              <a:buClr>
                <a:srgbClr val="e4a205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6" marL="798480">
              <a:spcBef>
                <a:spcPts val="700"/>
              </a:spcBef>
              <a:buClr>
                <a:srgbClr val="e4a205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D08C-1B38-4538-91FD-393B2BB42C26}" type="slidenum"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981080" y="380880"/>
            <a:ext cx="7162920" cy="838440"/>
            <a:chOff x="1981080" y="380880"/>
            <a:chExt cx="7162920" cy="838440"/>
          </a:xfrm>
        </p:grpSpPr>
        <p:sp>
          <p:nvSpPr>
            <p:cNvPr id="5" name=""/>
            <p:cNvSpPr/>
            <p:nvPr/>
          </p:nvSpPr>
          <p:spPr>
            <a:xfrm>
              <a:off x="1981080" y="380880"/>
              <a:ext cx="7162920" cy="83844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4a205"/>
                </a:solidFill>
                <a:latin typeface="Arial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2152800" y="517680"/>
              <a:ext cx="6771960" cy="590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4000" cy="2752560"/>
          </a:xfrm>
          <a:prstGeom prst="rect">
            <a:avLst/>
          </a:prstGeom>
          <a:solidFill>
            <a:srgbClr val="480e0e">
              <a:alpha val="9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228600" rIns="228600" tIns="457200" bIns="4572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4a205"/>
                </a:solidFill>
                <a:latin typeface="Arial"/>
              </a:rPr>
              <a:t>Click to edit the title text format</a:t>
            </a:r>
            <a:endParaRPr b="0" i="1" lang="en-US" sz="6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783-B215-4398-89C2-F8ABC26B4232}" type="slidenum"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981080" y="380880"/>
            <a:ext cx="7162920" cy="838440"/>
            <a:chOff x="1981080" y="380880"/>
            <a:chExt cx="7162920" cy="838440"/>
          </a:xfrm>
        </p:grpSpPr>
        <p:sp>
          <p:nvSpPr>
            <p:cNvPr id="48" name=""/>
            <p:cNvSpPr/>
            <p:nvPr/>
          </p:nvSpPr>
          <p:spPr>
            <a:xfrm>
              <a:off x="1981080" y="380880"/>
              <a:ext cx="7162920" cy="83844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4a205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2152800" y="517680"/>
              <a:ext cx="677196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59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a2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  <a:p>
            <a:pPr lvl="2" marL="345960" algn="ctr">
              <a:spcBef>
                <a:spcPts val="499"/>
              </a:spcBef>
              <a:buClr>
                <a:srgbClr val="e4a20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  <a:p>
            <a:pPr lvl="3" marL="568440" algn="ctr">
              <a:spcBef>
                <a:spcPts val="499"/>
              </a:spcBef>
              <a:buClr>
                <a:srgbClr val="e4a205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  <a:p>
            <a:pPr lvl="4" marL="798480" algn="ctr">
              <a:spcBef>
                <a:spcPts val="499"/>
              </a:spcBef>
              <a:buClr>
                <a:srgbClr val="e4a205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  <a:p>
            <a:pPr lvl="5" marL="798480">
              <a:spcBef>
                <a:spcPts val="499"/>
              </a:spcBef>
              <a:buClr>
                <a:srgbClr val="e4a20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  <a:p>
            <a:pPr lvl="6" marL="798480">
              <a:spcBef>
                <a:spcPts val="499"/>
              </a:spcBef>
              <a:buClr>
                <a:srgbClr val="e4a20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921040"/>
            <a:ext cx="9144000" cy="1838160"/>
          </a:xfrm>
          <a:prstGeom prst="rect">
            <a:avLst/>
          </a:prstGeom>
          <a:solidFill>
            <a:srgbClr val="480e0e">
              <a:alpha val="9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228600" rIns="228600" tIns="457200" bIns="4572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4a205"/>
                </a:solidFill>
                <a:latin typeface="Arial"/>
              </a:rPr>
              <a:t>Beginnings &amp; Separation</a:t>
            </a:r>
            <a:endParaRPr b="0" i="1" lang="en-US" sz="6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Well, I feel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Like I have to feel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Something good all of the tim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With most of life I cannot deal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But a good feeling I can feel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Even though it may not be real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if a person, place or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ing can deliver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I will quiver with delight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But will it last m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for all my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Or just one more lonely night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39920"/>
            <a:ext cx="8229600" cy="321624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lust, the flesh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eyes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the pride of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Drain the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Right out of m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266688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Well, I see something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I want i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Bam! Right now!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No questions asked 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Don't worry how much i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costs me now or later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I want it and I want it fast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I'll go to any length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Sacrifice all that I already hav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all that I might get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266688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Just to ge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Something more that I don't need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Lord, please don'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sk me what for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39920"/>
            <a:ext cx="8229600" cy="321624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lust, the flesh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eyes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the pride of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Drain the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Right out of m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98560"/>
            <a:ext cx="8229600" cy="229860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If you could imagine the world 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the way it should be, 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what would it be like? 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266688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I love when folks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Look right at m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what I'm doing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Or have don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lay it on abou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How groovy I am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that I'm looking grand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21200"/>
            <a:ext cx="8229600" cy="156816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every single word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Makes me think I'll live forever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Never knowing that they probably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Won't remember wha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y said tomorrow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38280"/>
            <a:ext cx="8229600" cy="101916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omorrow I could be dead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39920"/>
            <a:ext cx="8229600" cy="321624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lust, the flesh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eyes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the pride of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Drain the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Right out of m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229896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If what we learned today is true, how does/should it affect your life?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16891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How would it affect us as a community?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16891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How would it affect others…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our neighborhood, our city?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921040"/>
            <a:ext cx="9144000" cy="1838160"/>
          </a:xfrm>
          <a:prstGeom prst="rect">
            <a:avLst/>
          </a:prstGeom>
          <a:solidFill>
            <a:srgbClr val="480e0e">
              <a:alpha val="9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228600" rIns="228600" tIns="457200" bIns="4572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4a205"/>
                </a:solidFill>
                <a:latin typeface="Arial"/>
              </a:rPr>
              <a:t>Beginnings &amp; Separation</a:t>
            </a:r>
            <a:endParaRPr b="0" i="1" lang="en-US" sz="6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9200"/>
            <a:ext cx="8229600" cy="153684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4a205"/>
                </a:solidFill>
                <a:latin typeface="Arial"/>
              </a:rPr>
              <a:t>WALKING IT OUT…</a:t>
            </a:r>
            <a:br>
              <a:rPr sz="4800"/>
            </a:br>
            <a:r>
              <a:rPr b="0" i="1" lang="en-US" sz="2200" spc="-1" strike="noStrike">
                <a:solidFill>
                  <a:srgbClr val="e4a205"/>
                </a:solidFill>
                <a:latin typeface="Arial"/>
              </a:rPr>
              <a:t>Engage the Story more deeply with each other this week.</a:t>
            </a:r>
            <a:endParaRPr b="0" lang="en-US" sz="22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98560"/>
            <a:ext cx="8229600" cy="229860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What would change if our identity depended on the </a:t>
            </a:r>
            <a:r>
              <a:rPr b="0" i="1" lang="en-US" sz="4000" spc="-1" strike="noStrike">
                <a:solidFill>
                  <a:srgbClr val="e4a205"/>
                </a:solidFill>
                <a:latin typeface="Arial"/>
              </a:rPr>
              <a:t>Imago Dei</a:t>
            </a: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for our worth? 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16891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Why are we here?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What is our purpose?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e796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079640"/>
          </a:xfrm>
          <a:prstGeom prst="rect">
            <a:avLst/>
          </a:prstGeom>
          <a:solidFill>
            <a:srgbClr val="480e0e"/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The American Story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7760" y="144792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Birth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19360" y="144792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9800" y="144792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College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45280" y="144792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Starter Job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5280" y="318600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Starter Marriage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7760" y="318600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e4a205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 Marriage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0800" y="318600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2.5 Kids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18600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Picket Fence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51760" y="495288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7760" y="495288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Secure Job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12880" y="495288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Dump Kids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9800" y="495288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Retire to Florida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213840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98360" y="390528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98720" y="567216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75000" y="2138400"/>
            <a:ext cx="594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275000" y="3905280"/>
            <a:ext cx="594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75000" y="5672160"/>
            <a:ext cx="594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31120" y="213840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530760" y="390528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31120" y="567216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51680" y="2822400"/>
            <a:ext cx="0" cy="38124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4557600"/>
            <a:ext cx="0" cy="38124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6200"/>
            <a:ext cx="8229600" cy="25603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e4a205"/>
                </a:solidFill>
                <a:latin typeface="Arial"/>
              </a:rPr>
              <a:t>The Lust, the Flesh, the Eyes </a:t>
            </a:r>
            <a:br>
              <a:rPr sz="4600"/>
            </a:br>
            <a:r>
              <a:rPr b="0" i="1" lang="en-US" sz="4600" spc="-1" strike="noStrike">
                <a:solidFill>
                  <a:srgbClr val="e4a205"/>
                </a:solidFill>
                <a:latin typeface="Arial"/>
              </a:rPr>
              <a:t>and the Pride of Life</a:t>
            </a:r>
            <a:endParaRPr b="0" lang="en-US" sz="4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3:42:49Z</dcterms:created>
  <dc:creator>Jessica Phay User</dc:creator>
  <dc:description/>
  <dc:language>en-US</dc:language>
  <cp:lastModifiedBy>Jessica Phay User</cp:lastModifiedBy>
  <dcterms:modified xsi:type="dcterms:W3CDTF">2009-04-23T15:36:00Z</dcterms:modified>
  <cp:revision>4</cp:revision>
  <dc:subject/>
  <dc:title>Beginnings &amp; Separation</dc:title>
</cp:coreProperties>
</file>