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B2C91E-4E19-46BC-9D01-C233AE337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233646-8538-474F-9C33-40F6125C1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EF8C03-F0F0-4BEA-8921-84F92B7F59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0A803E-4E87-43EC-82A4-910D43753A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5FD643-234A-4925-94F7-578C1BEB8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E673A-0BE2-454C-9655-0A80DF6F2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224E00-DE0D-48C8-9AD0-31ABE6AEF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AE403-C16B-4732-8C0A-5A56C863B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C7E322-AB31-4279-8AA8-AFDC458AE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BC3686-DE47-4266-AA8A-A723002CC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FF4CF-12A1-4E02-8B4A-D2B13F256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BC68C3-551A-4F1F-AF32-A7AC31E1E9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8098F-5B16-4358-8231-187DA155E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A45DC-26AA-422F-93C0-CE7604092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4486D-3076-4F82-B67D-EF51B4C3D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D7A826-740E-44A3-BE47-03CD014C2B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3F565D-C41D-449D-83CA-4D90055F52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D47EF7-C8BA-4AB7-A321-9882EDBD7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D92E34-CB2C-4CAB-B6BD-1EC648C713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ED84D8-E53E-4E56-9570-399C04A4B0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A9897B-D68E-48C7-8FE9-72FCD1BB5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99FF19-683F-41D0-830F-9832D5181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1F926F-BA8B-4D43-9617-930DF5900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F97ABE-CBD5-4345-A210-548BF236DD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913C-E7D4-41BA-99DE-279834E99194}"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DB8A-DEA1-4050-B5D1-7B12970A3F1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Works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n your own words, </a:t>
            </a:r>
            <a:br>
              <a:rPr sz="4000"/>
            </a:br>
            <a:r>
              <a:rPr b="0" lang="en-US" sz="4000" spc="-1" strike="noStrike">
                <a:solidFill>
                  <a:srgbClr val="e4a205"/>
                </a:solidFill>
                <a:latin typeface="Arial"/>
              </a:rPr>
              <a:t>what is Jesus teaching his followers in this scene?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72080"/>
            <a:ext cx="8229600" cy="36889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4a205"/>
                </a:solidFill>
                <a:latin typeface="Arial"/>
              </a:rPr>
              <a:t>The parable of the Lost Son is a picture of what is called the </a:t>
            </a:r>
            <a:r>
              <a:rPr b="1" i="1" lang="en-US" sz="3800" spc="-1" strike="noStrike">
                <a:solidFill>
                  <a:srgbClr val="e4a205"/>
                </a:solidFill>
                <a:latin typeface="Arial"/>
              </a:rPr>
              <a:t>gospel</a:t>
            </a:r>
            <a:r>
              <a:rPr b="0" lang="en-US" sz="3800" spc="-1" strike="noStrike">
                <a:solidFill>
                  <a:srgbClr val="e4a205"/>
                </a:solidFill>
                <a:latin typeface="Arial"/>
              </a:rPr>
              <a:t>. </a:t>
            </a:r>
            <a:br>
              <a:rPr sz="3800"/>
            </a:br>
            <a:br>
              <a:rPr sz="2000"/>
            </a:br>
            <a:r>
              <a:rPr b="0" lang="en-US" sz="3800" spc="-1" strike="noStrike">
                <a:solidFill>
                  <a:srgbClr val="e4a205"/>
                </a:solidFill>
                <a:latin typeface="Arial"/>
              </a:rPr>
              <a:t>After hearing this story, how would you explain the gospel?</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9296280" y="3733920"/>
            <a:ext cx="990720" cy="742680"/>
          </a:xfrm>
          <a:prstGeom prst="rect">
            <a:avLst/>
          </a:prstGeom>
          <a:ln w="0">
            <a:noFill/>
          </a:ln>
        </p:spPr>
      </p:pic>
      <p:sp>
        <p:nvSpPr>
          <p:cNvPr id="98" name="PlaceHolder 1"/>
          <p:cNvSpPr>
            <a:spLocks noGrp="1"/>
          </p:cNvSpPr>
          <p:nvPr>
            <p:ph type="title"/>
          </p:nvPr>
        </p:nvSpPr>
        <p:spPr>
          <a:xfrm>
            <a:off x="457200" y="-1219320"/>
            <a:ext cx="8229600" cy="10796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Les Miserables Clip</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40036" fill="hold"/>
                                        <p:tgtEl>
                                          <p:spTgt spid="9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7"/>
                    </p:tgtEl>
                  </p:cond>
                </p:stCondLst>
                <p:childTnLst>
                  <p:par>
                    <p:cTn id="8" fill="hold">
                      <p:stCondLst>
                        <p:cond evt="onClick">
                          <p:tgtEl>
                            <p:spTgt spid="9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discussed today is true, how does/should it affect your life?</a:t>
            </a:r>
            <a:endParaRPr b="0" lang="en-US" sz="3900" spc="-1" strike="noStrike">
              <a:solidFill>
                <a:srgbClr val="e4a20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32280"/>
            <a:ext cx="8229600" cy="15681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a205"/>
                </a:solidFill>
                <a:latin typeface="Arial"/>
              </a:rPr>
              <a:t>How would it affect others…</a:t>
            </a:r>
            <a:br>
              <a:rPr sz="3600"/>
            </a:br>
            <a:r>
              <a:rPr b="0" lang="en-US" sz="3600" spc="-1" strike="noStrike">
                <a:solidFill>
                  <a:srgbClr val="e4a205"/>
                </a:solidFill>
                <a:latin typeface="Arial"/>
              </a:rPr>
              <a:t>our neighborhood, our city?</a:t>
            </a:r>
            <a:endParaRPr b="0" lang="en-US" sz="3600" spc="-1" strike="noStrike">
              <a:solidFill>
                <a:srgbClr val="e4a20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53920"/>
            <a:ext cx="8229600" cy="4125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 </a:t>
            </a:r>
            <a:br>
              <a:rPr sz="4800"/>
            </a:br>
            <a:r>
              <a:rPr b="0" lang="en-US" sz="3200" spc="-1" strike="noStrike">
                <a:solidFill>
                  <a:srgbClr val="e4a205"/>
                </a:solidFill>
                <a:latin typeface="Arial"/>
              </a:rPr>
              <a:t>We looked at Jesus’ birth and life—a humble life, human in every way, tempted in every way. Just like us. But Jesus lived his life without ever sinning or losing trust in his Father, God. Jesus found his very life and identity, in and from his Father.</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28800"/>
            <a:ext cx="8229600" cy="2176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saw Jesus filled and empowered to do miraculous things by the Holy Spirit.</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98360"/>
            <a:ext cx="8229600" cy="3638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 </a:t>
            </a:r>
            <a:br>
              <a:rPr sz="4800"/>
            </a:br>
            <a:r>
              <a:rPr b="0" lang="en-US" sz="3200" spc="-1" strike="noStrike">
                <a:solidFill>
                  <a:srgbClr val="e4a205"/>
                </a:solidFill>
                <a:latin typeface="Arial"/>
              </a:rPr>
              <a:t>We also learned the names given to Jesus at his birth, </a:t>
            </a:r>
            <a:r>
              <a:rPr b="0" i="1" lang="en-US" sz="3200" spc="-1" strike="noStrike">
                <a:solidFill>
                  <a:srgbClr val="e4a205"/>
                </a:solidFill>
                <a:latin typeface="Arial"/>
              </a:rPr>
              <a:t>Jesus: The Lord is salvation</a:t>
            </a:r>
            <a:r>
              <a:rPr b="0" lang="en-US" sz="3200" spc="-1" strike="noStrike">
                <a:solidFill>
                  <a:srgbClr val="e4a205"/>
                </a:solidFill>
                <a:latin typeface="Arial"/>
              </a:rPr>
              <a:t> &amp; </a:t>
            </a:r>
            <a:r>
              <a:rPr b="0" i="1" lang="en-US" sz="3200" spc="-1" strike="noStrike">
                <a:solidFill>
                  <a:srgbClr val="e4a205"/>
                </a:solidFill>
                <a:latin typeface="Arial"/>
              </a:rPr>
              <a:t>Immanuel: God with us</a:t>
            </a:r>
            <a:r>
              <a:rPr b="0" lang="en-US" sz="3200" spc="-1" strike="noStrike">
                <a:solidFill>
                  <a:srgbClr val="e4a205"/>
                </a:solidFill>
                <a:latin typeface="Arial"/>
              </a:rPr>
              <a:t>. These names showed us a lot about why he came to earth and who he is. </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Works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o is this Jesu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62320"/>
            <a:ext cx="8229600" cy="2908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is the connection between living in </a:t>
            </a:r>
            <a:br>
              <a:rPr sz="4000"/>
            </a:br>
            <a:r>
              <a:rPr b="0" lang="en-US" sz="4000" spc="-1" strike="noStrike">
                <a:solidFill>
                  <a:srgbClr val="e4a205"/>
                </a:solidFill>
                <a:latin typeface="Arial"/>
              </a:rPr>
              <a:t>God’s ways and believing </a:t>
            </a:r>
            <a:br>
              <a:rPr sz="4000"/>
            </a:br>
            <a:r>
              <a:rPr b="0" lang="en-US" sz="4000" spc="-1" strike="noStrike">
                <a:solidFill>
                  <a:srgbClr val="e4a205"/>
                </a:solidFill>
                <a:latin typeface="Arial"/>
              </a:rPr>
              <a:t>in Jesus?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04:26:19Z</dcterms:created>
  <dc:creator>Justin Kuravackal</dc:creator>
  <dc:description/>
  <dc:language>en-US</dc:language>
  <cp:lastModifiedBy>Jessica Phay User</cp:lastModifiedBy>
  <dcterms:modified xsi:type="dcterms:W3CDTF">2009-04-23T17:51:24Z</dcterms:modified>
  <cp:revision>14</cp:revision>
  <dc:subject/>
  <dc:title>The Works of Jesus</dc:title>
</cp:coreProperties>
</file>